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038D8-E3C7-4A07-947E-1446507CB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B9760-798E-4C70-B06A-9AFBE138B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A3B37-4223-4CE2-9302-5B5B7DE71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407F2-AA38-48CF-9063-0A4F2851E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40AD434-1CFD-42BD-B8FB-3E3F37C9A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390F4D-F73C-4522-B5F6-7E21302F7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D40BA3-AD65-4547-A8BE-9A7020BEA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894771A-67CA-404E-88F0-CAB5188DD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F4468C-B44B-4DA9-B609-02F07DB41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AA76360-1EE1-4DED-8557-60909D284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4C3261-2A62-4ACC-A5C5-B939400BF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1930F-FE66-4268-BE99-5CAB60842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C174E0-6160-4A54-A2E8-578C6B11D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48E35A-88DF-4062-863F-C97B3715E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7FFFCBE-9687-4952-A36E-152956203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7F42A5E-6E6F-4383-8E70-3EF63F4B9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D70B64F-20CC-4E04-9049-601468F82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68CBA-C052-4677-9843-3A231DFB89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894A39-6C77-4835-A768-EA0C4023B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A5C63-7CC0-4D69-ADAB-147C322F2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BF26E-6E40-422E-98EF-51A01DED4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CAC24-05B1-434E-88A3-240893D2C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3148E-3CE8-4155-958F-43EA55597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CEB92-0190-485C-A38A-9167EB0417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07306-8972-4820-86C3-61C72FFB4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EDFC99-45AE-40CC-91FA-E113BF3CE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F4522-503F-4015-AAF5-9F36FCB6A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5C30EF-A618-4513-8D28-94CC6AF17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27869B-E50B-426E-B7D6-8230E5B84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AC9654-FA42-4880-BABF-2A73D6946C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EA50ABF-BB55-4370-B74D-34DE344076D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6CCFEDFB-068D-41FF-A022-F29E989055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27C6720-2679-49D1-9778-5505400802F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06421-17DF-479F-9A3F-B7EE8577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EABA5CD-8F6A-4491-ADDF-E29ADBE2313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0EDB031-6BF6-4DB6-A443-3E24E77B69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E2CC282-1063-4283-B422-3AE56AF11D8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CF8BBE4-1951-42DE-BCC2-F5D824AFB6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F84B37B-7076-43C7-A147-83550BCBC3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76BEDDE-AF4D-4B91-B552-F0114B3DBB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598D2E0-1013-4EC1-8B74-600980AA9A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B3E7B1F-8894-4BDF-B54A-2D3C6F4809E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26E2942-BA90-4834-BEAA-855BF13900E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84171-77CE-485C-B304-700978C3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07C15-8817-427F-A29E-99909ADE7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7ED7E-6B57-41A3-BF08-BA333B9A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3813-38C0-4665-860C-7FAE3325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B0C4-1D9D-4523-8E88-54CF019E3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D28C-3E20-4498-B249-A9289C9D9CCA}"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4D2F-0F92-4838-985C-2936C44FB23D}"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9067-5301-4AEE-A141-A0B0F415E035}"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F7FE-D830-4732-8270-CE0BE116C6C1}"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mart-words.org/transition-words.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IMPROVE YOUR SKILLS FOR BOTH USING:</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BASIC READING INVENTORY</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THE 6+1 TRAITS OF WRITING</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GRAPHIC ORGANIZERS</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INTERNET RESEARCH</a:t>
            </a:r>
            <a:endParaRPr b="0" lang="en-US" sz="1400" spc="-1" strike="noStrike">
              <a:solidFill>
                <a:srgbClr val="ffffff"/>
              </a:solidFill>
              <a:latin typeface="Constantia"/>
            </a:endParaRPr>
          </a:p>
        </p:txBody>
      </p:sp>
      <p:pic>
        <p:nvPicPr>
          <p:cNvPr id="171" name="Title 1" descr=""/>
          <p:cNvPicPr/>
          <p:nvPr/>
        </p:nvPicPr>
        <p:blipFill>
          <a:blip r:embed="rId1"/>
          <a:stretch/>
        </p:blipFill>
        <p:spPr>
          <a:xfrm>
            <a:off x="457200" y="1432080"/>
            <a:ext cx="830880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Ideas/Content</a:t>
            </a:r>
            <a:endParaRPr b="0" lang="en-US" sz="4200" spc="-1" strike="noStrike">
              <a:solidFill>
                <a:srgbClr val="f9f9f9"/>
              </a:solidFill>
              <a:latin typeface="Constantia"/>
            </a:endParaRPr>
          </a:p>
        </p:txBody>
      </p:sp>
      <p:sp>
        <p:nvSpPr>
          <p:cNvPr id="18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lear</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trolling idea</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focused/ narrowe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ufficient inform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sightfu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rigin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teresting detail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mplete</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838080" y="1066680"/>
            <a:ext cx="6782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 is the internal structure of a piece of writing like the framework of a building. It is the road map which directs the reader through the paper, the thread of central meaning, the logical pattern of the ideas. Good organization helps a reader          understand the writer’s message or follow the writing with e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gin his/her writing with an inviting introduction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oks” the read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llow a logical and effective order, structure, &amp; sequenc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se smooth transitions that link key points and idea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lace supporting details where they are most appropria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d his/her writing with a conclusion that gives the read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ense of resolution or something to think abo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1371600" y="838080"/>
            <a:ext cx="655308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rganization</a:t>
            </a:r>
            <a:endParaRPr b="0" lang="en-US" sz="4200" spc="-1" strike="noStrike">
              <a:solidFill>
                <a:srgbClr val="f9f9f9"/>
              </a:solidFill>
              <a:latin typeface="Constantia"/>
            </a:endParaRPr>
          </a:p>
        </p:txBody>
      </p:sp>
      <p:sp>
        <p:nvSpPr>
          <p:cNvPr id="188"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ealing ope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direction/ logical progression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sequen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nected-nes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mooth transition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ood pa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uilds to high point</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rong sense of conclusion</a:t>
            </a:r>
            <a:endParaRPr b="0" lang="en-US" sz="2400" spc="-1" strike="noStrike">
              <a:solidFill>
                <a:srgbClr val="fefac9"/>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0" name="PlaceHolder 2"/>
          <p:cNvSpPr>
            <a:spLocks noGrp="1"/>
          </p:cNvSpPr>
          <p:nvPr>
            <p:ph/>
          </p:nvPr>
        </p:nvSpPr>
        <p:spPr>
          <a:xfrm>
            <a:off x="609480" y="1447560"/>
            <a:ext cx="8229600" cy="4678200"/>
          </a:xfrm>
          <a:prstGeom prst="rect">
            <a:avLst/>
          </a:prstGeom>
          <a:noFill/>
          <a:ln w="0">
            <a:noFill/>
          </a:ln>
        </p:spPr>
        <p:txBody>
          <a:bodyPr anchor="t">
            <a:normAutofit fontScale="95000"/>
          </a:bodyPr>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Word choice is the use of rich, colorful, precise language that moves and enlightens the reader.</a:t>
            </a:r>
            <a:endParaRPr b="0" lang="en-US" sz="2000" spc="-1" strike="noStrike">
              <a:solidFill>
                <a:srgbClr val="ffffff"/>
              </a:solidFill>
              <a:latin typeface="Constantia"/>
            </a:endParaRPr>
          </a:p>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Strong word choice clarifies and expands ideas.</a:t>
            </a:r>
            <a:endParaRPr b="0" lang="en-US" sz="2000" spc="-1" strike="noStrike">
              <a:solidFill>
                <a:srgbClr val="ffffff"/>
              </a:solidFill>
              <a:latin typeface="Constantia"/>
            </a:endParaRPr>
          </a:p>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Don’t tell me the moon is shining; show me the glint of light on broken glass.”</a:t>
            </a:r>
            <a:endParaRPr b="0" lang="en-US" sz="2000" spc="-1" strike="noStrike">
              <a:solidFill>
                <a:srgbClr val="ffffff"/>
              </a:solidFill>
              <a:latin typeface="Constantia"/>
            </a:endParaRPr>
          </a:p>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endParaRPr b="0" lang="en-US" sz="2000" spc="-1" strike="noStrike">
              <a:solidFill>
                <a:srgbClr val="ffffff"/>
              </a:solidFill>
              <a:latin typeface="Constantia"/>
            </a:endParaRPr>
          </a:p>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powerful action verbs (vivid verbs)</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specific descriptive nouns</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adjectives that are as descriptive as possible</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Be concise (tighten sentences)</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words correctly </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language that is natural and not overdone</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figurative language – similes, metaphors, hyperbole (exaggeration)</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void repetition, slang, and clichés</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 the words &amp; phrases create vivid pictures in the reader’s min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ave I used any new wor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try not to repeat words too many times?</a:t>
            </a:r>
            <a:endParaRPr b="0" lang="en-US" sz="2600" spc="-1" strike="noStrike">
              <a:solidFill>
                <a:srgbClr val="ffffff"/>
              </a:solidFill>
              <a:latin typeface="Constantia"/>
            </a:endParaRPr>
          </a:p>
        </p:txBody>
      </p:sp>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atur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tive, energetic verb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cise, concrete nouns &amp; modifier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ew twists on everyday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inimal redundancy (repetitive, unnecessary)</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curacy of express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aints pictures</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6"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nk for transitional words/phrases</a:t>
            </a:r>
            <a:endParaRPr b="0" lang="en-US" sz="2600" spc="-1" strike="noStrike">
              <a:solidFill>
                <a:srgbClr val="ffffff"/>
              </a:solidFill>
              <a:latin typeface="Constantia"/>
            </a:endParaRPr>
          </a:p>
        </p:txBody>
      </p:sp>
      <p:sp>
        <p:nvSpPr>
          <p:cNvPr id="197" name="Rectangle 4"/>
          <p:cNvSpPr/>
          <p:nvPr/>
        </p:nvSpPr>
        <p:spPr>
          <a:xfrm>
            <a:off x="2007360" y="3246480"/>
            <a:ext cx="51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e58b6"/>
                </a:solidFill>
                <a:uFillTx/>
                <a:latin typeface="Arial"/>
                <a:hlinkClick r:id="rId1"/>
              </a:rPr>
              <a:t>http://www.smart-words.org/transition-word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19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Sentence fluency is the rhythm and flow of the language, the sound of word patterns, the way the writing plays to the ear, not just to the eye.</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To me the greatest pleasure of writing is not what it’s about, but the music the words make.”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 writer should:</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Vary the length of sentence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Use different sentence structures or pattern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Begin the sentence in different way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Use complete sentences – any fragments must add to the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meaning of the text</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Use language that sounds natural</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Give the writing an easy flow and rhythm</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1"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an you FEEL the words and phrases flow </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together as you read it alou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basic reading inventory focuses on five areas:</a:t>
            </a:r>
            <a:endParaRPr b="0" lang="en-US" sz="2600" spc="-1" strike="noStrike">
              <a:solidFill>
                <a:srgbClr val="ffffff"/>
              </a:solidFill>
              <a:latin typeface="Constantia"/>
            </a:endParaRPr>
          </a:p>
          <a:p>
            <a:pP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phonemic awareness</a:t>
            </a:r>
            <a:endParaRPr b="0" lang="en-US" sz="2600" spc="-1" strike="noStrike">
              <a:solidFill>
                <a:srgbClr val="ffffff"/>
              </a:solidFill>
              <a:latin typeface="Constantia"/>
            </a:endParaRPr>
          </a:p>
          <a:p>
            <a:pP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phonics</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fluency</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vocabulary </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omprehension</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last three will be the main area of focus</a:t>
            </a:r>
            <a:endParaRPr b="0" lang="en-US" sz="2600" spc="-1" strike="noStrike">
              <a:solidFill>
                <a:srgbClr val="ffffff"/>
              </a:solidFill>
              <a:latin typeface="Constantia"/>
            </a:endParaRPr>
          </a:p>
        </p:txBody>
      </p:sp>
      <p:pic>
        <p:nvPicPr>
          <p:cNvPr id="173" name="Title 1" descr=""/>
          <p:cNvPicPr/>
          <p:nvPr/>
        </p:nvPicPr>
        <p:blipFill>
          <a:blip r:embed="rId1"/>
          <a:stretch/>
        </p:blipFill>
        <p:spPr>
          <a:xfrm>
            <a:off x="225360" y="152280"/>
            <a:ext cx="8461440" cy="15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203" name="PlaceHolder 2"/>
          <p:cNvSpPr>
            <a:spLocks noGrp="1"/>
          </p:cNvSpPr>
          <p:nvPr>
            <p:ph/>
          </p:nvPr>
        </p:nvSpPr>
        <p:spPr>
          <a:xfrm>
            <a:off x="457200" y="1447560"/>
            <a:ext cx="8229600" cy="4678200"/>
          </a:xfrm>
          <a:prstGeom prst="rect">
            <a:avLst/>
          </a:prstGeom>
          <a:noFill/>
          <a:ln w="0">
            <a:noFill/>
          </a:ln>
        </p:spPr>
        <p:txBody>
          <a:bodyPr anchor="t">
            <a:normAutofit/>
          </a:bodyPr>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heck list:</a:t>
            </a:r>
            <a:endParaRPr b="0" lang="en-US" sz="2400" spc="-1" strike="noStrike">
              <a:solidFill>
                <a:srgbClr val="fefac9"/>
              </a:solidFill>
              <a:latin typeface="Constantia"/>
            </a:endParaRPr>
          </a:p>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e, memorable word combinations graceful, easy to read alou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atural, pleasant rhythm</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variety in length, type &amp; structure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tructure enhances mea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ffective, smooth phrasing</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It is the heart and soul of the writing, the magic, the wit, the feeling and conviction of the writer coming through the words; it is the personality of the writer coming through on the page. It is what gives the reader the feeling that the writer is talking directly to you.</a:t>
            </a: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A writer should:</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Write honestly and from the heart</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Connect and interact with the read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Care about topic </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Speak directly to the reader in a way that is individual</a:t>
            </a: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compelling and engaging</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Keep the reader interested in the topic</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Share his/her feelings about the topic</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Use language that brings the topic to life for the read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Use expression to voice personality </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the writing sound like m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say what I think and fee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my writing have energy and pass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0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person behind the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riter is committed/involved with topic</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reaches out/connects to audienc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nergetic, lively, consistent ton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finite point of view</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11" name="PlaceHolder 2"/>
          <p:cNvSpPr>
            <a:spLocks noGrp="1"/>
          </p:cNvSpPr>
          <p:nvPr>
            <p:ph/>
          </p:nvPr>
        </p:nvSpPr>
        <p:spPr>
          <a:xfrm>
            <a:off x="457200" y="1447560"/>
            <a:ext cx="8229600" cy="4678200"/>
          </a:xfrm>
          <a:prstGeom prst="rect">
            <a:avLst/>
          </a:prstGeom>
          <a:noFill/>
          <a:ln w="0">
            <a:noFill/>
          </a:ln>
        </p:spPr>
        <p:txBody>
          <a:bodyPr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Conventions are the rules of the language. They are the common patterns of grammar and usage, spelling, punctuation, paragraphing (indenting) and capitalization that readers expect in good writing. They make writing easy to read and understand. </a:t>
            </a:r>
            <a:endParaRPr b="0" lang="en-US" sz="2000" spc="-1" strike="noStrike">
              <a:solidFill>
                <a:srgbClr val="ffffff"/>
              </a:solidFill>
              <a:latin typeface="Constant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                               </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Proofread and edit the paper</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Use capitalization correctly</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Make sure all spelling is corrected</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Correct all grammar and punctuation</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Reinforce the organization with good paragraphing</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Turn in a clean, edited, and polished final draft</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Good ideas could be overshadowed by errors in conventions</a:t>
            </a:r>
            <a:endParaRPr b="0" lang="en-US" sz="2000" spc="-1" strike="noStrike">
              <a:solidFill>
                <a:srgbClr val="ffffff"/>
              </a:solidFill>
              <a:latin typeface="Constant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that distract the reader;  essential to a polished</a:t>
            </a:r>
            <a:endParaRPr b="0" lang="en-US" sz="2000" spc="-1" strike="noStrike">
              <a:solidFill>
                <a:srgbClr val="ffffff"/>
              </a:solidFill>
              <a:latin typeface="Constant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composition</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13"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use of conjunctions &amp; transitions correct spell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rrect/effective punctu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ropriate grammar/ usag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rrect capitaliz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signed to make reading easy</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15" name="PlaceHolder 2"/>
          <p:cNvSpPr>
            <a:spLocks noGrp="1"/>
          </p:cNvSpPr>
          <p:nvPr>
            <p:ph/>
          </p:nvPr>
        </p:nvSpPr>
        <p:spPr>
          <a:xfrm>
            <a:off x="380880" y="137124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REATIVE, PERSONAL FACE:</a:t>
            </a:r>
            <a:r>
              <a:rPr b="1" lang="en-US" sz="3500" spc="-1" strike="noStrike" u="sng">
                <a:solidFill>
                  <a:srgbClr val="ffffff"/>
                </a:solidFill>
                <a:uFillTx/>
                <a:latin typeface="Constantia"/>
              </a:rPr>
              <a:t>  </a:t>
            </a:r>
            <a:br>
              <a:rPr sz="3500"/>
            </a:br>
            <a:r>
              <a:rPr b="1" lang="en-US" sz="3500" spc="-1" strike="noStrike">
                <a:solidFill>
                  <a:srgbClr val="ffffff"/>
                </a:solidFill>
                <a:latin typeface="Constantia"/>
              </a:rPr>
              <a:t>Does the flow of the writing keep you reading?</a:t>
            </a: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 </a:t>
            </a:r>
            <a:r>
              <a:rPr b="1" lang="en-US" sz="2600" spc="-1" strike="noStrike">
                <a:solidFill>
                  <a:srgbClr val="ffffff"/>
                </a:solidFill>
                <a:latin typeface="Constantia"/>
              </a:rPr>
              <a:t>INFORMATIONAL FACE:</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Does organization help you understand key points or issues?</a:t>
            </a: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1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reative, Pers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Hooks the reader</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lear transition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Wow of an ending</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Main Point</a:t>
            </a: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ati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To-the-point lead</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onnecting structur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s and educate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Ending reinforces main point</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verall-The Paper</a:t>
            </a: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heck list:</a:t>
            </a:r>
            <a:endParaRPr b="0" lang="en-US" sz="1700" spc="-1" strike="noStrike">
              <a:solidFill>
                <a:srgbClr val="ffffff"/>
              </a:solidFill>
              <a:latin typeface="Constantia"/>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has an effective beginning, middle, and end</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paragraphing effectively</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a strong controlling idea</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progresses in a logical order</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uses effective cohesive devices (such as transitions, repetition, pronouns, parallel structure) between and within paragraphs</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learly addresses the topic and provides convincing elaboration through specific and relevant details, reasons, and examples</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precise and vivid languag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sentences that are clear and varied in structur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effectively uses writing techniques (such as imagery, humor, point of view, voic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shows complexity, freshness of thought, and individual perspectiv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learly shows an awareness of audience and purpos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few errors in grammar/usage, punctuation, capitalization, and/or spelling</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762120" y="914400"/>
            <a:ext cx="79246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I will be checking you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independent reading level</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frustration level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strategies for word identification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fluency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strengths and weaknesses in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comprehension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is will help determine where you are as a rea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1"/>
          <p:cNvSpPr/>
          <p:nvPr/>
        </p:nvSpPr>
        <p:spPr>
          <a:xfrm>
            <a:off x="380880" y="660240"/>
            <a:ext cx="8382240" cy="56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y writing is import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expresses who you are as a person</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portable and permanent and makes  thinking visible</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helps you move easily among facts, inferences, and opinions without getting confused, and without confusing your read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deas down preserves them so that you can reflect upon them lat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provides communication and thinking skills needed to participate effectively in society</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an essential job skil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762120" y="1143000"/>
            <a:ext cx="72388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6 + 1 Traits of Writ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deas/content</a:t>
            </a:r>
            <a:r>
              <a:rPr b="0" lang="en-US" sz="1800" spc="-1" strike="noStrike">
                <a:solidFill>
                  <a:srgbClr val="ffffff"/>
                </a:solidFill>
                <a:latin typeface="Constantia"/>
              </a:rPr>
              <a:t>-the heart of the message, the content of the piece, the main theme, with details that enrich and develop that them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Organization</a:t>
            </a:r>
            <a:r>
              <a:rPr b="0" lang="en-US" sz="1800" spc="-1" strike="noStrike">
                <a:solidFill>
                  <a:srgbClr val="ffffff"/>
                </a:solidFill>
                <a:latin typeface="Constantia"/>
              </a:rPr>
              <a:t>-the internal structure (the roadmap), the thread of central meaning, the logical and sometimes intriguing pattern of idea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oice</a:t>
            </a:r>
            <a:r>
              <a:rPr b="0" lang="en-US" sz="1800" spc="-1" strike="noStrike">
                <a:solidFill>
                  <a:srgbClr val="ffffff"/>
                </a:solidFill>
                <a:latin typeface="Constantia"/>
              </a:rPr>
              <a:t>-the heart and soul, magic, wit, feeling and conviction of the writer coming out</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d choice-</a:t>
            </a:r>
            <a:r>
              <a:rPr b="0" lang="en-US" sz="1800" spc="-1" strike="noStrike">
                <a:solidFill>
                  <a:srgbClr val="ffffff"/>
                </a:solidFill>
                <a:latin typeface="Constantia"/>
              </a:rPr>
              <a:t>the use of rich, colorful, precise language that moves and enlightens the reader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entence fluency-</a:t>
            </a:r>
            <a:r>
              <a:rPr b="0" lang="en-US" sz="1800" spc="-1" strike="noStrike">
                <a:solidFill>
                  <a:srgbClr val="ffffff"/>
                </a:solidFill>
                <a:latin typeface="Constantia"/>
              </a:rPr>
              <a:t>the rhythm and flow of the language, the sound of word patterns, the way in which the writing plays to the ear, not just to the ey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onventions</a:t>
            </a:r>
            <a:r>
              <a:rPr b="0" lang="en-US" sz="1800" spc="-1" strike="noStrike">
                <a:solidFill>
                  <a:srgbClr val="ffffff"/>
                </a:solidFill>
                <a:latin typeface="Constantia"/>
              </a:rPr>
              <a:t>-the mechanical correctness of the piece; spelling, grammar, and usage, paragraphing, use of capitals and punctu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esentations</a:t>
            </a:r>
            <a:r>
              <a:rPr b="0" lang="en-US" sz="1800" spc="-1" strike="noStrike">
                <a:solidFill>
                  <a:srgbClr val="ffffff"/>
                </a:solidFill>
                <a:latin typeface="Constantia"/>
              </a:rPr>
              <a:t>-the culmination all, the sharing with outside read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3"/>
          <p:cNvSpPr/>
          <p:nvPr/>
        </p:nvSpPr>
        <p:spPr>
          <a:xfrm>
            <a:off x="939960" y="1514520"/>
            <a:ext cx="7315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Box 5"/>
          <p:cNvSpPr/>
          <p:nvPr/>
        </p:nvSpPr>
        <p:spPr>
          <a:xfrm>
            <a:off x="939960" y="609480"/>
            <a:ext cx="72133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rubric based on the traits </a:t>
            </a:r>
            <a:r>
              <a:rPr b="0" lang="en-US" sz="1800" spc="-1" strike="noStrike">
                <a:solidFill>
                  <a:srgbClr val="ffffff"/>
                </a:solidFill>
                <a:latin typeface="Arial"/>
              </a:rPr>
              <a:t>will be used as an assessment tool </a:t>
            </a:r>
            <a:r>
              <a:rPr b="0" lang="en-US" sz="1800" spc="-1" strike="noStrike">
                <a:solidFill>
                  <a:srgbClr val="ffffff"/>
                </a:solidFill>
                <a:latin typeface="Constantia"/>
              </a:rPr>
              <a:t>for various written wor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variety of graphic organizers will be introduced for use during the writing process; they will help with organization.  They can also be a useful tool when researching information for project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hen researching, it is required that sources be cited when information is  “borrowed” or obtained from an internet sour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worksheet will be available, along with other strategies/tools to keep track of the web sites, and pertinent information that will be needed to create a work cited page for proje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earning the Traits One by On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2286000" y="33660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eas/Cont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deas are the heart of the message, the content of the piece, together with strong, clear and interesting details that enrich and develop the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arrow the topic to something specific</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clude fresh, original idea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ick to a clear, central theme that drives the writing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te the main idea with plenty of informa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important, interesting supporting detail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velop the topic in an interesting way</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se Lots of </a:t>
            </a:r>
            <a:r>
              <a:rPr b="0" i="1" lang="en-US" sz="1800" spc="-1" strike="noStrike" u="sng">
                <a:solidFill>
                  <a:srgbClr val="ffffff"/>
                </a:solidFill>
                <a:uFillTx/>
                <a:latin typeface="Arial"/>
              </a:rPr>
              <a:t>showing</a:t>
            </a:r>
            <a:r>
              <a:rPr b="0" lang="en-US" sz="1800" spc="-1" strike="noStrike">
                <a:solidFill>
                  <a:srgbClr val="ffffff"/>
                </a:solidFill>
                <a:latin typeface="Arial"/>
              </a:rPr>
              <a:t> (specific) rather than </a:t>
            </a:r>
            <a:r>
              <a:rPr b="0" i="1" lang="en-US" sz="1800" spc="-1" strike="noStrike" u="sng">
                <a:solidFill>
                  <a:srgbClr val="ffffff"/>
                </a:solidFill>
                <a:uFillTx/>
                <a:latin typeface="Arial"/>
              </a:rPr>
              <a:t>telling</a:t>
            </a:r>
            <a:r>
              <a:rPr b="0" lang="en-US" sz="1800" spc="-1" strike="noStrike">
                <a:solidFill>
                  <a:srgbClr val="ffffff"/>
                </a:solidFill>
                <a:latin typeface="Arial"/>
              </a:rPr>
              <a:t> (generaliti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ay in control of the topic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990720" y="1859040"/>
            <a:ext cx="5867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stay focu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share original and fresh information or his/her perspective about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pi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get off the topic and start drif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6:28:36Z</dcterms:created>
  <dc:creator>Spriggs, Penny</dc:creator>
  <dc:description/>
  <dc:language>en-US</dc:language>
  <cp:lastModifiedBy>McCracken, Gene</cp:lastModifiedBy>
  <dcterms:modified xsi:type="dcterms:W3CDTF">2012-01-16T17:07:09Z</dcterms:modified>
  <cp:revision>44</cp:revision>
  <dc:subject/>
  <dc:title>READING AND WRITING:</dc:title>
</cp:coreProperties>
</file>